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xiety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is an emotional state in which people feel uneasy, apprehensive, or fearful. People usually experience anxiety about events they cannot control or predict, or about events that seem threatening or dangerous. For example, students taking an important test may feel anxious because they cannot predict the test questions or feel certain of a good grade. People often use the words fear and anxiety to describe the same thing. Fear also describes a reaction to immediate danger characterized by a strong desire to escape the situation. The physical symptoms of anxiety reflect a chronic “readiness” to deal with some future threat. These symptoms may include fidgeting, muscle tension, sleeping problems, and headach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ehens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dge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l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mul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us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pi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advert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anxie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physical symptoms of anxie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anxiety disorders be classi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phobi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common phobi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people feel with generalized anxiety disor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you know about obsessive-compulsive disor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you describe pan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post-traumatic stress disor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eant by “flashback”?</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whether the following statements are true or false:</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is an emotional state of fear.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with generalized anxiety disorder do not feel anxious most of the time.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may be accompanied by symptoms such as disturbed sleep, tension, irritability, etc.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ophobia is fear of insect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ic is a mild surge of fear.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with post-traumatic stress disorder often experience flashback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bsessive-compulsive disorder, people feel compelled to perform certain behaviors.                                                             T             F</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disorders do not significantly interfere with people’s ability to function.                                                                            T             F</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Passive Voice sentences by using the words and phrases below:</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hospitals/build/in this area/n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ward/for his invention/two years ag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you/a medicine box/tomorrow</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rug/approve/recently/by the bo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harmacy/well/supply/with antibiot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can/release/from hospital/so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djectives can be used to describe the following word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or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either the Gerund or the Infinitive of the verbs in bracket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n’t your brother busy (translate) these scientific artic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e with me; you will hear Professor Brown (speak) on alternative medic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n’t you got used to (work) in this instit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I’d better (tell) you how this func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proud of (be) good stud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enjoy (take) short wal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 has never heard anybody (play) this instrument so beautiful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you think he will succeed in (pass) his exam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1062000"/>
            <a:ext cx="8147160" cy="17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a short essay about your experience considering anxiety or some phobia</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20:31:05Z</dcterms:modified>
  <cp:revision>20</cp:revision>
  <dc:subject/>
  <dc:title>Slide 1</dc:title>
</cp:coreProperties>
</file>